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FDD8-79C1-4C51-8426-D405CA04F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19C5-DB09-46B4-B1F7-ED26FA9E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F4F5-09B3-4D23-A2C6-CEEA6549B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E268-D81B-4ADA-AEBB-AC63E3A5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AE5D-BA1C-4EA0-BDC0-BB9CD8F85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039B-9983-49EA-B034-517E09AC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5C8C-9752-4328-9352-535F0ECA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DA5C-C871-4303-B837-A443079E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5F28-E0E4-4048-8D69-08EDC627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95A8-EEE0-43F4-BCFB-45D8EBB2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74C0-57C0-4060-8006-0A7D1FFA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B42F-DD33-4EE9-9EDB-44DB118B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2408-5BA5-41AC-A5CE-478EC2FE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9CFC-D547-4B57-A916-C4761EE0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0A50-C589-405C-8400-1E7E3FDF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20AE-73F3-4605-82A6-78FA4C445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D665-01DF-4CDC-9E18-D5181F1D5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8A93-5DF7-4606-B527-86E64F7D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75C3-179A-4F9B-A3A2-0D99616E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87E9-1259-4541-BE73-FF093A40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50A6-DFE1-4967-9833-DA6A240E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103B-3124-4F59-A2A7-B9C4EA11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E7FB-AF1B-4BDC-AC77-463E154B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BD24-9389-4C38-9D63-84106FA2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4AC3-77D0-4AEE-B126-ACF7CBCC4B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A6D6-5CD6-4B01-943D-A27EBD3C92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380880"/>
            <a:ext cx="868680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rt 39 do Código de Miner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t. 39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O plano de aproveitamento econômico da jazida será apresentado em duas vias e constará d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 - Memorial explicativo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I - Projetos ou anteprojetos referentes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) ao método de mineração a ser adotado, fazendo referência à escala de produção prevista inicialmente e à sua projeção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) à iluminação, ventilação, transporte, sinalização e segurança do trabalho, quando se tratar de lavra subterrânea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) ao transporte na superfície e ao beneficiamento e aglomeração do minério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) às instalações de energia, de abastecimento de água e condicionamento de ar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) à higiene da mina e dos respectivos trabalhos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) às moradias e suas condições de habitabilidade para todos os que residem no local da mineração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) às instalações de captação e proteção das fontes, adução, distribuição e utilização de água, para as jazidas da Classe VIII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21:59:55Z</dcterms:created>
  <dc:creator>Alexandre Braule</dc:creator>
  <dc:description/>
  <dc:language>en-US</dc:language>
  <cp:lastModifiedBy>Alexandre Braule</cp:lastModifiedBy>
  <dcterms:modified xsi:type="dcterms:W3CDTF">2004-08-11T12:38:30Z</dcterms:modified>
  <cp:revision>64</cp:revision>
  <dc:subject/>
  <dc:title>Apresentação do PowerPoint</dc:title>
</cp:coreProperties>
</file>